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9.png" ContentType="image/png"/>
  <Override PartName="/ppt/media/image6.jpeg" ContentType="image/jpeg"/>
  <Override PartName="/ppt/media/image5.wmf" ContentType="image/x-wmf"/>
  <Override PartName="/ppt/media/image12.jpeg" ContentType="image/jpe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3.jpeg" ContentType="image/jpeg"/>
  <Override PartName="/ppt/media/image23.png" ContentType="image/png"/>
  <Override PartName="/ppt/media/image4.png" ContentType="image/png"/>
  <Override PartName="/ppt/media/image27.png" ContentType="image/png"/>
  <Override PartName="/ppt/media/image26.png" ContentType="image/png"/>
  <Override PartName="/ppt/media/image14.png" ContentType="image/png"/>
  <Override PartName="/ppt/media/image24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3.jpeg" ContentType="image/jpeg"/>
  <Override PartName="/ppt/media/image17.png" ContentType="image/png"/>
  <Override PartName="/ppt/media/image16.png" ContentType="image/png"/>
  <Override PartName="/ppt/media/image1.jpeg" ContentType="image/jpeg"/>
  <Override PartName="/ppt/media/image15.wmf" ContentType="image/x-wmf"/>
  <Override PartName="/ppt/media/image25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49E78-3619-42F4-8989-A08171C1E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92EBC-454D-45CE-B838-DA47B339E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06A25-AD5D-46FD-855C-B0404D34C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D8D0D-ABB2-4485-9317-816AF8935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CB48B-59D5-4692-A0CE-2202467CE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F8689-3C3F-4780-AB4B-2FB3B55DE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F7D34-82B4-41DD-B1C2-CD3FB8E07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B1DA8-B161-43FA-9DD8-B6F1D1A79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0F911-B3C9-49CA-8531-66218400E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F3DE1-AD84-46DB-90F8-8F9C59DC5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0DE05-E359-4970-8C11-9F910A8E0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7B321-34D2-4E82-A1E5-2D1D4CF15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F6CC1-C25D-479C-B73D-47CEB26603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1.jpeg"/><Relationship Id="rId8" Type="http://schemas.openxmlformats.org/officeDocument/2006/relationships/image" Target="../media/image22.png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image" Target="../media/image6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0;&#1090;&#1086;&#1084;&#1085;&#1072;&#1103;_&#1084;&#1072;&#1089;&#1089;&#1072;" TargetMode="External"/><Relationship Id="rId2" Type="http://schemas.openxmlformats.org/officeDocument/2006/relationships/hyperlink" Target="http://ru.wikipedia.org/wiki/&#1041;&#1077;&#1088;&#1080;&#1083;&#1083;&#1080;&#1081;" TargetMode="External"/><Relationship Id="rId3" Type="http://schemas.openxmlformats.org/officeDocument/2006/relationships/hyperlink" Target="http://ru.wikipedia.org/wiki/&#1048;&#1085;&#1076;&#1080;&#1081;" TargetMode="External"/><Relationship Id="rId4" Type="http://schemas.openxmlformats.org/officeDocument/2006/relationships/hyperlink" Target="http://ru.wikipedia.org/wiki/&#1059;&#1088;&#1072;&#1085;_(&#1101;&#1083;&#1077;&#1084;&#1077;&#1085;&#1090;)" TargetMode="External"/><Relationship Id="rId5" Type="http://schemas.openxmlformats.org/officeDocument/2006/relationships/hyperlink" Target="http://ru.wikipedia.org/wiki/&#1058;&#1086;&#1088;&#1080;&#1081;" TargetMode="External"/><Relationship Id="rId6" Type="http://schemas.openxmlformats.org/officeDocument/2006/relationships/hyperlink" Target="http://ru.wikipedia.org/wiki/&#1062;&#1077;&#1088;&#1080;&#1081;" TargetMode="External"/><Relationship Id="rId7" Type="http://schemas.openxmlformats.org/officeDocument/2006/relationships/image" Target="../media/image15.wmf"/><Relationship Id="rId8" Type="http://schemas.openxmlformats.org/officeDocument/2006/relationships/image" Target="../media/image1.jpe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Лекция 2.</a:t>
            </a: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 Периодический закон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   Д.И. Менделее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24000" y="189000"/>
            <a:ext cx="1223640" cy="11523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195640" y="549360"/>
            <a:ext cx="64306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Донской государственный технический университе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Факультет нанотехнологии и композиционные материалы</a:t>
            </a:r>
            <a:r>
              <a:rPr b="0" i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ff"/>
                </a:solidFill>
                <a:latin typeface="Arial"/>
              </a:rPr>
              <a:t>Кафедра «Химия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370920" y="4365720"/>
            <a:ext cx="1323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Arial"/>
              </a:rPr>
              <a:t>Кужаров А.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Arial"/>
              </a:rPr>
              <a:t>Новиков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476360" y="115560"/>
            <a:ext cx="70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руктура современной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ериодической систе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24000" y="1413000"/>
            <a:ext cx="7200720" cy="51004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715160" y="2421000"/>
            <a:ext cx="1428840" cy="21603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539640" y="2781360"/>
            <a:ext cx="1505160" cy="82872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>
            <a:off x="5219640" y="2133720"/>
            <a:ext cx="1524240" cy="83808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pic>
        <p:nvPicPr>
          <p:cNvPr id="99" name="" descr=""/>
          <p:cNvPicPr/>
          <p:nvPr/>
        </p:nvPicPr>
        <p:blipFill>
          <a:blip r:embed="rId5"/>
          <a:stretch/>
        </p:blipFill>
        <p:spPr>
          <a:xfrm>
            <a:off x="3780000" y="2997360"/>
            <a:ext cx="1523880" cy="82836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pic>
        <p:nvPicPr>
          <p:cNvPr id="100" name="" descr=""/>
          <p:cNvPicPr/>
          <p:nvPr/>
        </p:nvPicPr>
        <p:blipFill>
          <a:blip r:embed="rId6"/>
          <a:stretch/>
        </p:blipFill>
        <p:spPr>
          <a:xfrm>
            <a:off x="5435640" y="2997360"/>
            <a:ext cx="1542960" cy="82836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pic>
        <p:nvPicPr>
          <p:cNvPr id="101" name="" descr=""/>
          <p:cNvPicPr/>
          <p:nvPr/>
        </p:nvPicPr>
        <p:blipFill>
          <a:blip r:embed="rId7"/>
          <a:stretch/>
        </p:blipFill>
        <p:spPr>
          <a:xfrm>
            <a:off x="179280" y="115920"/>
            <a:ext cx="1224000" cy="115236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8"/>
          <a:stretch/>
        </p:blipFill>
        <p:spPr>
          <a:xfrm>
            <a:off x="2916360" y="3860640"/>
            <a:ext cx="3162240" cy="86688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кон Моз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295272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Квадратный корень из частоты для каждой линии спектра рентгеновских лучей есть приблизительно линейная функция атомного номер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— постоянная Ридберг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— постоянная экранирова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— главное квантовое числ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\sqrt{\frac{\nu}{R}} = \frac{Z-S_n}{n}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611280" y="3068640"/>
            <a:ext cx="2232000" cy="75564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3960720" y="1125360"/>
            <a:ext cx="5183280" cy="412596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1547640" y="2997360"/>
            <a:ext cx="7417080" cy="936360"/>
          </a:xfrm>
          <a:prstGeom prst="rect">
            <a:avLst/>
          </a:prstGeom>
          <a:ln w="28440">
            <a:solidFill>
              <a:srgbClr val="ff0000"/>
            </a:solidFill>
            <a:miter/>
          </a:ln>
        </p:spPr>
      </p:pic>
      <p:sp>
        <p:nvSpPr>
          <p:cNvPr id="108" name=""/>
          <p:cNvSpPr/>
          <p:nvPr/>
        </p:nvSpPr>
        <p:spPr>
          <a:xfrm flipH="1">
            <a:off x="5076360" y="2276640"/>
            <a:ext cx="358920" cy="64764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780000" y="1700280"/>
            <a:ext cx="4824360" cy="576360"/>
          </a:xfrm>
          <a:prstGeom prst="ellipse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4"/>
          <a:stretch/>
        </p:blipFill>
        <p:spPr>
          <a:xfrm>
            <a:off x="179280" y="11592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619280" y="274680"/>
            <a:ext cx="706752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Причины периодич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79280" y="115920"/>
            <a:ext cx="1224000" cy="1152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3" name=""/>
          <p:cNvGraphicFramePr/>
          <p:nvPr/>
        </p:nvGraphicFramePr>
        <p:xfrm>
          <a:off x="1979640" y="1052640"/>
          <a:ext cx="5759280" cy="5556240"/>
        </p:xfrm>
        <a:graphic>
          <a:graphicData uri="http://schemas.openxmlformats.org/drawingml/2006/table">
            <a:tbl>
              <a:tblPr/>
              <a:tblGrid>
                <a:gridCol w="716040"/>
                <a:gridCol w="2008080"/>
                <a:gridCol w="3035160"/>
              </a:tblGrid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имический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лемен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лектронная формул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4624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пери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s</a:t>
                      </a:r>
                      <a:r>
                        <a:rPr b="1" lang="ru-RU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и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p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p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p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p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p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p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и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p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p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p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p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p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p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p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p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p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p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p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p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p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p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123640" y="259920"/>
            <a:ext cx="657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овременная формулировка Периодического зако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Свойства химических элементов находятся в периодической зависимости от заряда ядер атомов химических элементо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ависимость радиуса атома от порядкового номера элемен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79280" y="115920"/>
            <a:ext cx="1224000" cy="115236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0" y="1314360"/>
            <a:ext cx="8964720" cy="524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Энергия иониз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1258920" y="2924280"/>
          <a:ext cx="6443640" cy="730080"/>
        </p:xfrm>
        <a:graphic>
          <a:graphicData uri="http://schemas.openxmlformats.org/drawingml/2006/table">
            <a:tbl>
              <a:tblPr/>
              <a:tblGrid>
                <a:gridCol w="804960"/>
                <a:gridCol w="806400"/>
                <a:gridCol w="804960"/>
                <a:gridCol w="806400"/>
                <a:gridCol w="804600"/>
                <a:gridCol w="804960"/>
                <a:gridCol w="806400"/>
                <a:gridCol w="8049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92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,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,6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,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,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,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,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24000" y="1268280"/>
            <a:ext cx="84247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Энергией ионизации (потенциалом ионизации) - работа, необходимая для отрыва электрона от нейтрального атом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Э – ē = Э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042920" y="2276640"/>
            <a:ext cx="705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ервый потенциал ионизации элементов третьего период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2700360" y="4797360"/>
          <a:ext cx="4032000" cy="1152360"/>
        </p:xfrm>
        <a:graphic>
          <a:graphicData uri="http://schemas.openxmlformats.org/drawingml/2006/table">
            <a:tbl>
              <a:tblPr/>
              <a:tblGrid>
                <a:gridCol w="2275560"/>
                <a:gridCol w="1756440"/>
              </a:tblGrid>
              <a:tr h="384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i- ē=Li</a:t>
                      </a:r>
                      <a:r>
                        <a:rPr b="0" lang="ru-RU" sz="16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</a:t>
                      </a:r>
                      <a:r>
                        <a:rPr b="0" lang="ru-RU" sz="16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=3,39 э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84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i</a:t>
                      </a:r>
                      <a:r>
                        <a:rPr b="0" lang="ru-RU" sz="16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ē=Li</a:t>
                      </a:r>
                      <a:r>
                        <a:rPr b="0" lang="ru-RU" sz="16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</a:t>
                      </a:r>
                      <a:r>
                        <a:rPr b="0" lang="ru-RU" sz="16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=75,62 э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84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i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2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ē=Li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</a:t>
                      </a:r>
                      <a:r>
                        <a:rPr b="0" lang="ru-RU" sz="16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=122,42 э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125" name=""/>
          <p:cNvSpPr/>
          <p:nvPr/>
        </p:nvSpPr>
        <p:spPr>
          <a:xfrm>
            <a:off x="971640" y="3933720"/>
            <a:ext cx="748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торой и третий потенциал ионизации значительно выше, чем первый, например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79280" y="11592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63280" y="259920"/>
            <a:ext cx="73803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ависимость первого потенциала ионизации от порядкового номера элемен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79280" y="115920"/>
            <a:ext cx="1224000" cy="115236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0" y="1341360"/>
            <a:ext cx="9144000" cy="52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Энергия сродства к электрон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324000" y="3357720"/>
          <a:ext cx="8362800" cy="793440"/>
        </p:xfrm>
        <a:graphic>
          <a:graphicData uri="http://schemas.openxmlformats.org/drawingml/2006/table">
            <a:tbl>
              <a:tblPr/>
              <a:tblGrid>
                <a:gridCol w="1234800"/>
                <a:gridCol w="1017720"/>
                <a:gridCol w="1019160"/>
                <a:gridCol w="1017720"/>
                <a:gridCol w="1019160"/>
                <a:gridCol w="1017360"/>
                <a:gridCol w="1019160"/>
                <a:gridCol w="10177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25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</a:t>
                      </a:r>
                      <a:r>
                        <a:rPr b="0" lang="ru-RU" sz="18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эв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,6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оличество энергии, выделяемое нейтральным атомом, находящимся в состоянии с наименьшей энергией, при присоединении к нему одного электрон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Э + ē = Э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2484360" y="5300640"/>
          <a:ext cx="4038480" cy="968400"/>
        </p:xfrm>
        <a:graphic>
          <a:graphicData uri="http://schemas.openxmlformats.org/drawingml/2006/table">
            <a:tbl>
              <a:tblPr/>
              <a:tblGrid>
                <a:gridCol w="1101600"/>
                <a:gridCol w="1101600"/>
                <a:gridCol w="1101960"/>
                <a:gridCol w="733320"/>
              </a:tblGrid>
              <a:tr h="484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84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,6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,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,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,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134" name=""/>
          <p:cNvSpPr/>
          <p:nvPr/>
        </p:nvSpPr>
        <p:spPr>
          <a:xfrm>
            <a:off x="2050920" y="2852640"/>
            <a:ext cx="50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зменение сродства к электрону по периоду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547640" y="4581360"/>
            <a:ext cx="633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зменение сродства к электрону по подгруппе, эВ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79280" y="11592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47640" y="260280"/>
            <a:ext cx="715032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Электроотрицатель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Мера относительной способности  атомов оттягивать на себя общую электронную пару при образовании химической связ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Э.О.=J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+Е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с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546280" y="889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826920" y="2133720"/>
          <a:ext cx="7056360" cy="4089240"/>
        </p:xfrm>
        <a:graphic>
          <a:graphicData uri="http://schemas.openxmlformats.org/drawingml/2006/table">
            <a:tbl>
              <a:tblPr/>
              <a:tblGrid>
                <a:gridCol w="388800"/>
                <a:gridCol w="793800"/>
                <a:gridCol w="622440"/>
                <a:gridCol w="498240"/>
                <a:gridCol w="685800"/>
                <a:gridCol w="747720"/>
                <a:gridCol w="935280"/>
                <a:gridCol w="834840"/>
                <a:gridCol w="595440"/>
                <a:gridCol w="531720"/>
                <a:gridCol w="422280"/>
              </a:tblGrid>
              <a:tr h="2311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gridSpan="10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                        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Электроотрицательность элементов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I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V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I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II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I              0.9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e             1.4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            2.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0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.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a               1.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g           1.2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            1.4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           1.7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         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8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g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                                                                  0.9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a                                  1.0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c       1.2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i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3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4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5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6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6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7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7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05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7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n            1.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a             1.8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e         2.0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4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7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b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8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r              0.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       1.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2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b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2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3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u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4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4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d 1.3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05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d                  1.4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    1.4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7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b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8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2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a           0.9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a</a:t>
                      </a: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</a:t>
                      </a: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1.0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f           1.2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a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4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5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5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t 1.4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g                                  1.4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1.4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b             1.5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</a:t>
                      </a: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7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t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h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a           0.9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c      1.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*Лантаноиды- 1.08-1.1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**Актиноиды   1.00-1.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179280" y="115920"/>
            <a:ext cx="1224000" cy="115236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611280" y="6308640"/>
            <a:ext cx="792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Таблица электроотрицательности по Полинг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Рекомендуемая литература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1d06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d06aa"/>
                </a:solidFill>
                <a:latin typeface="Arial"/>
              </a:rPr>
              <a:t>Кужаров А.С. Общая химия в машиностроительном ВУЗЕ. Конспект лекций для инженеров, Ростов-на-Дону, 199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1d06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d06aa"/>
                </a:solidFill>
                <a:latin typeface="Arial"/>
              </a:rPr>
              <a:t>Ахметов Н.С. Общая и неорганическая химия, М., 200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1d06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d06aa"/>
                </a:solidFill>
                <a:latin typeface="Arial"/>
              </a:rPr>
              <a:t>Глинка Н.Л. Общая химия, М., 2008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1d06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d06aa"/>
                </a:solidFill>
                <a:latin typeface="Arial"/>
              </a:rPr>
              <a:t>Некрасов Б.В. Курс обшей химии, М., 1962 – 201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Н.В.Коровин Общая химия, М.: Высшая школа, 199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М.И.Гельфман, В.П.Юстратов Химия, СПб.: Лань, 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www.chemistry.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www.chem.msu.su/r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16000" y="26028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стория открытия. Предшественн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50920" y="1267920"/>
            <a:ext cx="4752720" cy="33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1000"/>
          </a:bodyPr>
          <a:p>
            <a:pPr marL="37872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авило триад Дёберейнер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872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1829 г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872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8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расположить три сходных по химическим свойствам элемента в порядке возрастания их атомных весов, то атомный вес второго элемента будет равен среднему арифметическому атомных весов первого и третьег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8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8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9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99"/>
                </a:solidFill>
                <a:latin typeface="Arial"/>
              </a:rPr>
              <a:t>Литий Li: A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(Li) </a:t>
            </a:r>
            <a:r>
              <a:rPr b="0" lang="ru-RU" sz="1800" spc="-1" strike="noStrike">
                <a:solidFill>
                  <a:srgbClr val="009999"/>
                </a:solidFill>
                <a:latin typeface="Arial"/>
              </a:rPr>
              <a:t>=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9999"/>
                </a:solidFill>
                <a:latin typeface="Arial"/>
              </a:rPr>
              <a:t>6,941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9999"/>
                </a:solidFill>
                <a:latin typeface="Arial"/>
              </a:rPr>
              <a:t>а.е.м</a:t>
            </a:r>
            <a:r>
              <a:rPr b="0" lang="ru-RU" sz="1800" spc="-1" strike="noStrike" baseline="-25000">
                <a:solidFill>
                  <a:srgbClr val="009999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9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9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9999"/>
                </a:solidFill>
                <a:latin typeface="Arial"/>
              </a:rPr>
              <a:t>Натрий</a:t>
            </a: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 Na</a:t>
            </a:r>
            <a:r>
              <a:rPr b="1" lang="ru-RU" sz="1800" spc="-1" strike="noStrike">
                <a:solidFill>
                  <a:srgbClr val="009999"/>
                </a:solidFill>
                <a:latin typeface="Arial"/>
              </a:rPr>
              <a:t>:</a:t>
            </a: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 A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Na)</a:t>
            </a: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 = 2</a:t>
            </a:r>
            <a:r>
              <a:rPr b="1" lang="ru-RU" sz="1800" spc="-1" strike="noStrike">
                <a:solidFill>
                  <a:srgbClr val="009999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,</a:t>
            </a:r>
            <a:r>
              <a:rPr b="1" lang="ru-RU" sz="1800" spc="-1" strike="noStrike">
                <a:solidFill>
                  <a:srgbClr val="009999"/>
                </a:solidFill>
                <a:latin typeface="Arial"/>
              </a:rPr>
              <a:t>99</a:t>
            </a: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9999"/>
                </a:solidFill>
                <a:latin typeface="Arial"/>
              </a:rPr>
              <a:t>а.е.м.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9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9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99"/>
                </a:solidFill>
                <a:latin typeface="Arial"/>
              </a:rPr>
              <a:t>Калий K: A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(K) = </a:t>
            </a:r>
            <a:r>
              <a:rPr b="0" lang="ru-RU" sz="1800" spc="-1" strike="noStrike">
                <a:solidFill>
                  <a:srgbClr val="009999"/>
                </a:solidFill>
                <a:latin typeface="Arial"/>
              </a:rPr>
              <a:t>39,1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02 </a:t>
            </a:r>
            <a:r>
              <a:rPr b="0" lang="ru-RU" sz="1800" spc="-1" strike="noStrike">
                <a:solidFill>
                  <a:srgbClr val="009999"/>
                </a:solidFill>
                <a:latin typeface="Arial"/>
              </a:rPr>
              <a:t>а.е.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9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9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A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Na)</a:t>
            </a: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 =</a:t>
            </a:r>
            <a:r>
              <a:rPr b="1" lang="ru-RU" sz="1800" spc="-1" strike="noStrike">
                <a:solidFill>
                  <a:srgbClr val="009999"/>
                </a:solidFill>
                <a:latin typeface="Arial"/>
              </a:rPr>
              <a:t> ½ </a:t>
            </a: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(</a:t>
            </a:r>
            <a:r>
              <a:rPr b="1" lang="ru-RU" sz="1800" spc="-1" strike="noStrike">
                <a:solidFill>
                  <a:srgbClr val="009999"/>
                </a:solidFill>
                <a:latin typeface="Arial"/>
              </a:rPr>
              <a:t>A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Li)</a:t>
            </a: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 + </a:t>
            </a:r>
            <a:r>
              <a:rPr b="1" lang="ru-RU" sz="1800" spc="-1" strike="noStrike">
                <a:solidFill>
                  <a:srgbClr val="009999"/>
                </a:solidFill>
                <a:latin typeface="Arial"/>
              </a:rPr>
              <a:t>A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K</a:t>
            </a: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)) ≈ 23,0 </a:t>
            </a:r>
            <a:r>
              <a:rPr b="1" lang="ru-RU" sz="1800" spc="-1" strike="noStrike">
                <a:solidFill>
                  <a:srgbClr val="009999"/>
                </a:solidFill>
                <a:latin typeface="Arial"/>
              </a:rPr>
              <a:t>а.е.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9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5292720" y="981000"/>
            <a:ext cx="2949480" cy="22687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5651640" y="3284640"/>
            <a:ext cx="2222280" cy="27637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5095080" y="6093000"/>
            <a:ext cx="3184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Иоганн Вольфганг Дёберейнер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1780-184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179280" y="11592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79280" y="189000"/>
            <a:ext cx="664524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пираль Шанкурту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95280" y="3075120"/>
            <a:ext cx="4105440" cy="35528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900000" y="1197000"/>
            <a:ext cx="3278160" cy="18032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5724360" y="3141720"/>
            <a:ext cx="2232360" cy="29512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4866480" y="6093000"/>
            <a:ext cx="3998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Александр Эмиль Бегуйе де Шанкуртуа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1820-188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211640" y="981000"/>
            <a:ext cx="4572000" cy="20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«Земная спираль»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Шанкуртуа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1862 г.)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 боковую поверхность цилиндра, разделенную на 16 частей, нанесена линия под углом 45°, на которой отмечены точки, соответствующие атомным весам элементов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ходные по свойствам элементы группируются на одной вертикальной лин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25092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19280" y="115560"/>
            <a:ext cx="678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кон октав Ньюленд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6227640" y="3357720"/>
            <a:ext cx="1951200" cy="26812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324000" y="4076640"/>
            <a:ext cx="4968720" cy="250848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81520" y="692280"/>
            <a:ext cx="346248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1865 г. Ньюлендс опубликовал таблицу элементов, назвав её «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законом октав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»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омера аналогичных элементов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, как правило,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тличаются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или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а целое число семь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, или на кратное семи; другими словами, члены одной и той же группы соотносятся друг с другом в том же отношении,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ак и крайние точки одной или больше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ктав в музыке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»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003640" y="6058080"/>
            <a:ext cx="397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Джон Александр Рейна Ньюлендс, 1837-1898 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179280" y="1268280"/>
            <a:ext cx="5364360" cy="28814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79280" y="1341360"/>
            <a:ext cx="432000" cy="2879640"/>
          </a:xfrm>
          <a:prstGeom prst="ellipse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39640" y="4005360"/>
            <a:ext cx="1079640" cy="72072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rot="16200000">
            <a:off x="1871640" y="4473360"/>
            <a:ext cx="71280" cy="1871640"/>
          </a:xfrm>
          <a:custGeom>
            <a:avLst/>
            <a:gdLst>
              <a:gd name="textAreaLeft" fmla="*/ 45720 w 71280"/>
              <a:gd name="textAreaRight" fmla="*/ 71640 w 71280"/>
              <a:gd name="textAreaTop" fmla="*/ 48600 h 1871640"/>
              <a:gd name="textAreaBottom" fmla="*/ 1823040 h 1871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050920" y="1628640"/>
            <a:ext cx="648000" cy="4320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17928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аблица Мейер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372360" y="3716280"/>
            <a:ext cx="2090520" cy="247644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867280" y="836640"/>
            <a:ext cx="3276720" cy="30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864 г. Мейер опубликовал таблицу из 28 элементов, группируя их по валентности (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rtig}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н ограничил число элементов, чтобы подчеркнуть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закономерное изменение атомной массы в рядах подобных элемент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аблица 1870 г. состояла из девяти столбц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екоторые ячейки таблицы Мейер оставил незаполненным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651640" y="6276960"/>
            <a:ext cx="3268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Юлиус Лотар Мейер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1830-1895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900000" y="5660640"/>
            <a:ext cx="416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Таблица Мейера 1864 г. (фрагмент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0" y="1484280"/>
            <a:ext cx="5830920" cy="376416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4067280" y="4724280"/>
            <a:ext cx="1009440" cy="4334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11280" y="2349360"/>
            <a:ext cx="5400720" cy="4320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179280" y="11592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.И. Менделе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2124000" y="692280"/>
            <a:ext cx="2195640" cy="244764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4859280" y="692280"/>
            <a:ext cx="1973160" cy="251928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95280" y="335772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МЕНДЕЛЕЕВ Дмитрий Иванович (1834-1907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российский химик, разносторонний ученый, педаго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Открыл (1869) периодический закон химических элементов — один из основных законов естествознания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Оставил св. 500 печатных трудов, среди которых классические «Основы химии» (ч. 1-2, 1869-71, 13 изд., 1947) — первое стройное изложение неорганической хими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Автор фундаментальных исследований по химии, химической технологии, физике, метрологии, воздухоплаванию, метеорологии, сельскому хозяйству, экономике, народному просвещению и др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Заложил основы теории растворов, предложил промышленный способ фракционного разделения нефти, изобрел вид бездымного пороха, пропагандировал использование минеральных удобрений, орошение засушливых земель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Один из инициаторов создания Русского химического общества (1868). Профессор Петербургского университета (1865-90), ушел в отставку в знак протеста против притеснения студенчеств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Организатор и первый директор (1893) Главной палаты мер и весов (ныне ВНИИ метрологии им. Менделеева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179280" y="11592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195640" y="115560"/>
            <a:ext cx="61308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Первая формулировка </a:t>
            </a:r>
            <a:br>
              <a:rPr sz="3200"/>
            </a:b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Периодического зако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716000" y="1628640"/>
            <a:ext cx="4248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марта 1869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г. Д.И. Менделеев опубликовал (в Журнале Русского Химического Общества) первую статью о периодическом законе на русском и французском языках, где впервые сформулировал Периодический закон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«…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Свойства элементов, а потому и свойства образуемых ими простых и сложных тел состоят в периодической зависимости от их атомного веса…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Таблица «Опыт системы элементов» (Д. И. Менделеев; 1869)"/>
          <p:cNvPicPr/>
          <p:nvPr/>
        </p:nvPicPr>
        <p:blipFill>
          <a:blip r:embed="rId1"/>
          <a:stretch/>
        </p:blipFill>
        <p:spPr>
          <a:xfrm>
            <a:off x="395280" y="1052640"/>
            <a:ext cx="4392720" cy="58053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179280" y="11592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40000" y="274320"/>
            <a:ext cx="63468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ущность открытия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.И. Менделее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50920" y="1413000"/>
            <a:ext cx="518472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ущность открытия Менделеева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: с ростом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атомной массы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химических элементов их свойства меняются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е монотонно, а периодичес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тличие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аботы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Менделеева от работ предшественников: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лассификация всех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известных к тому времени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элементов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на основе их атомных масс и химических свойст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справил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томные массы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некоторых элементов (например,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бериллия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индия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урана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тория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церия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титана, иттрия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азместил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есколько элементов в своей системе вопреки принятым в то время представлениям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об их сходстве с другими (например, таллий, считавшийся щелочным металлом, он поместил в третью группу согласно его фактической максимальной валентности)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ставил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 таблице пустые клетки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где должны были разместиться пока не открытые элементы. В 1875-1866 гг. открыты галлий (экаалюминий), скандий (экабор) и германий (экасилиций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7">
            <a:lum bright="4000"/>
          </a:blip>
          <a:stretch/>
        </p:blipFill>
        <p:spPr>
          <a:xfrm rot="5400000">
            <a:off x="6147360" y="1565640"/>
            <a:ext cx="2143080" cy="342108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5649840" y="4508640"/>
            <a:ext cx="283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Первая периодическая таблиц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8"/>
          <a:stretch/>
        </p:blipFill>
        <p:spPr>
          <a:xfrm>
            <a:off x="324000" y="189000"/>
            <a:ext cx="122364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6T17:45:22Z</dcterms:created>
  <dc:creator>Toshiba</dc:creator>
  <dc:description/>
  <dc:language>en-US</dc:language>
  <cp:lastModifiedBy>User</cp:lastModifiedBy>
  <dcterms:modified xsi:type="dcterms:W3CDTF">2011-09-15T08:00:20Z</dcterms:modified>
  <cp:revision>141</cp:revision>
  <dc:subject/>
  <dc:title>Периодический закон  Д.И. Менделеева</dc:title>
</cp:coreProperties>
</file>