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9.png" ContentType="image/png"/>
  <Override PartName="/ppt/media/image28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356E-B793-46F9-B8EB-88D2EF6C80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3B7E-DC8C-4EE4-BB13-D269C743E7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ACCE-18E5-4A70-815B-DE728AD69BF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F550-52F9-4FAE-8D45-0DDB469F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85FE-2C0B-4D7D-B8C1-B542C806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11A8-A0CC-4B24-A4F7-AFE9A769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AA19-A0E3-4288-A83F-BC3C9F89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CAF9-FC41-4BE2-991E-D087E27F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8F01-30F9-42BE-BC5F-886BA3D5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1657-F27F-447A-BEA8-0271A012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915D-7E77-4E11-BBBF-AB4D16CE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CEA0-F7F0-43F9-8F97-CD727718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0258-B30E-483C-9B5B-AAA60493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60E5-B089-46A2-9B70-09B95122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4B23-6DF4-41CB-BCF7-CAA381A9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6E53-4208-490D-B757-046012CB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EF94-413F-4DB8-8E07-CE00CD43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839C-8B3A-46ED-8D26-D15D8F09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CF8F-1630-4CFA-A7D6-B4D7A5EC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5CD4-83C4-41FC-92BD-1CFA4213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4A362-2707-44F2-8878-58B01B21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27C5B-ED97-4FC9-BAA8-18EBFABB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9FD06-9CFB-46F3-AEB8-BD909AEF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6FFD8-BD68-4D07-8997-E229B26B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C39AA-D7F0-4D11-97E4-8E3AA514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31F6-C719-4C5A-AC2F-05ED47BB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3266E-D847-4010-B393-BBB5BAD8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A040D-C34B-4715-B387-323F4025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3D202-0B14-4F1C-A648-BB0AE5AF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B8554-3F03-4AC5-8DF7-E8F28CCC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7D135-8B2F-4982-85F5-11EBAB03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D9FBC-D95C-4779-8736-15A4851A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45203-477F-4EA0-80BA-C0993C93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97783-1158-4A8F-8AA7-03BAB7E6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459D9-25BF-4AFA-AC53-EB8189EF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F7614-4071-497C-BA19-D97E30B1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4C56-44BB-4EBA-8ACD-B4A06FAA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0DA15-FFD0-4CA4-97AE-3ACDE051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326A0-CD31-4BE0-8E1E-31DE5DB8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00378-BC2C-4DBF-B85E-2721405F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13AA5-EEF7-4EC5-BB95-4AA2353A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AAAFC-53E1-4686-BB85-00FFC545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E0630-7678-47B3-AA5B-700E6CBC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2088B-449B-4898-9EC4-5FB722BB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986B7-69FB-4826-8EAA-3CCD8CCC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D3614-890F-4185-8946-3A2C7CA0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E0678-057C-4CA6-8529-9207D6C6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DB85-3B62-4042-B62C-C77CA45C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A1C80-5068-4C9A-B984-C26A06B7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54C49-B063-4571-BF6B-AC0E52C9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F84D7-2712-403D-B20E-F9BBFBC7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ABC2A-5E2E-4DFC-A890-56FADDBF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CDA57-88C0-4278-A147-E963EAD2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8B7F4-10DB-4480-9673-1FE8BC9D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BDB5E-6453-4A7C-BF4D-8E7E10F5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FF59D-49F4-4797-93B6-527B8DCA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C367D-9345-4CA6-AFE5-541B60B9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ACE59-B5B5-4787-A2EB-218D4EF6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F7AF-9D4F-4586-AD53-494BD606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BCE62-266A-478E-895F-A4E48A93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231C-8D14-444E-ABE2-D3A86022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44AB-DDD5-40F1-B6C5-98D0251C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7C52-3AF4-43FA-96BF-EB81F592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824F-E82B-42E6-A9CC-67FB25358B57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A46E-2C7A-4360-BA95-7662B6E037F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3BC0-3BD3-4FA6-91C6-995B35989DB8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EDF9-53E5-4B44-95BA-D2E11B1E7D3A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2286-B39F-4F53-B393-88EA5BC9C8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екция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Основы химической кинетики и химическое равновес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Донской государственный технический университ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Кафедра «Хим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760" y="4221000"/>
            <a:ext cx="4124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Рекомендуемая литератур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Л. Глинка, Общая химия, М.: Химия,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В.Коровин Общая химия, М.: Высшая школа,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.И.Гельфман, В.П.Юстратов Химия, СПб.: Лань, 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istry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.msu.su/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7680" y="4365720"/>
            <a:ext cx="216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Е. Г. Задошенк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2011 -2012 учебный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395280" y="141300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тим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которые при одних и тех же условиях протекают в прямом и обратном направлени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обратимыми реакция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зываются реакции, которые протекают только в одном направлении, т.е. продукты этих реакций не взаимодействуют друг с другом с образованием исход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2700360" y="2276640"/>
          <a:ext cx="4343400" cy="11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2276640"/>
                    <a:ext cx="4343400" cy="11588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1476360" y="5516640"/>
          <a:ext cx="6424560" cy="83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5516640"/>
                    <a:ext cx="642456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8280360" cy="7444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250920" y="1265760"/>
            <a:ext cx="60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 скоростью гом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в единице объема системы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"/>
              <p:cNvSpPr txBox="1"/>
              <p:nvPr/>
            </p:nvSpPr>
            <p:spPr>
              <a:xfrm>
                <a:off x="6338880" y="1125360"/>
                <a:ext cx="256716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ом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Rectangle 4"/>
          <p:cNvSpPr/>
          <p:nvPr/>
        </p:nvSpPr>
        <p:spPr>
          <a:xfrm>
            <a:off x="250920" y="4578840"/>
            <a:ext cx="56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 скоростью гетер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на единице поверхности раздела фаз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6372360" y="4869000"/>
                <a:ext cx="257004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етер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Прямоугольник 6"/>
          <p:cNvSpPr/>
          <p:nvPr/>
        </p:nvSpPr>
        <p:spPr>
          <a:xfrm>
            <a:off x="179280" y="3213000"/>
            <a:ext cx="63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ю химической реа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зывают изменение концентрации реагирующих веществ в единицу времен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6877080" y="2852640"/>
                <a:ext cx="148572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4"/>
          <p:cNvSpPr/>
          <p:nvPr/>
        </p:nvSpPr>
        <p:spPr>
          <a:xfrm>
            <a:off x="5076720" y="333360"/>
            <a:ext cx="3888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яя скорость реак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конечное изменение концентра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относящееся к промежутку времен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5"/>
          <p:cNvSpPr/>
          <p:nvPr/>
        </p:nvSpPr>
        <p:spPr>
          <a:xfrm>
            <a:off x="4930920" y="2852640"/>
            <a:ext cx="42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тинная (мгновенная) скорос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реакции определяется тангенсом угла наклона касательной в точке, соответствующей данному моменту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0"/>
              <p:cNvSpPr txBox="1"/>
              <p:nvPr/>
            </p:nvSpPr>
            <p:spPr>
              <a:xfrm>
                <a:off x="7093080" y="1628640"/>
                <a:ext cx="171900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1"/>
              <p:cNvSpPr txBox="1"/>
              <p:nvPr/>
            </p:nvSpPr>
            <p:spPr>
              <a:xfrm>
                <a:off x="7164360" y="4076640"/>
                <a:ext cx="16826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d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Прямоугольник 28"/>
          <p:cNvSpPr/>
          <p:nvPr/>
        </p:nvSpPr>
        <p:spPr>
          <a:xfrm>
            <a:off x="324000" y="4869000"/>
            <a:ext cx="38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е концентрации исходного вещества (1) и продукта реакции (2) во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8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897440" cy="3593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611280" y="0"/>
            <a:ext cx="8820000" cy="1341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835280" y="1483920"/>
            <a:ext cx="6681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я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состояние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ический ф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481800" cy="820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108000" y="3716280"/>
            <a:ext cx="1843200" cy="2043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179280" y="148428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 в 1867 г.  норвежскими ученными математиком Като Максимилианом  Гульдбергом и химиком Петером Ваа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179280" y="2060640"/>
            <a:ext cx="8715600" cy="12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ой реакции прямо пропорциональна произведению концентраций реагирующих веществ в степенях их стехиометрических коэффици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9"/>
          <p:cNvSpPr/>
          <p:nvPr/>
        </p:nvSpPr>
        <p:spPr>
          <a:xfrm>
            <a:off x="1928880" y="4000680"/>
            <a:ext cx="7000920" cy="28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нахождения молекул А и В в точке R зависит от их концентр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α[A]         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β[B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сложного события (т.е. их столкновения) равна произведению вероятностей простых собы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В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·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α[A]·β[B]        α·β = 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k [A]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[B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13"/>
          <p:cNvSpPr/>
          <p:nvPr/>
        </p:nvSpPr>
        <p:spPr>
          <a:xfrm>
            <a:off x="1835280" y="342900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атематическое обоснование закона действующих масс для реакции А + В =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772320" cy="9554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6"/>
          <p:cNvSpPr/>
          <p:nvPr/>
        </p:nvSpPr>
        <p:spPr>
          <a:xfrm>
            <a:off x="324000" y="14842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нетическое уравн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это математическое выражение, связывающие скорость реакции с концентрацией реагирующ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900000" y="3573360"/>
                <a:ext cx="2872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4356000" y="3500280"/>
                <a:ext cx="295596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Прямоугольник 12"/>
          <p:cNvSpPr/>
          <p:nvPr/>
        </p:nvSpPr>
        <p:spPr>
          <a:xfrm>
            <a:off x="324000" y="4292640"/>
            <a:ext cx="785808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684360" y="5177520"/>
            <a:ext cx="764352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(к) + 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Object 12"/>
          <p:cNvGraphicFramePr/>
          <p:nvPr/>
        </p:nvGraphicFramePr>
        <p:xfrm>
          <a:off x="2627280" y="2708280"/>
          <a:ext cx="3473640" cy="88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708280"/>
                    <a:ext cx="34736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2"/>
          <p:cNvSpPr/>
          <p:nvPr/>
        </p:nvSpPr>
        <p:spPr>
          <a:xfrm>
            <a:off x="214200" y="142884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3"/>
          <p:cNvSpPr/>
          <p:nvPr/>
        </p:nvSpPr>
        <p:spPr>
          <a:xfrm>
            <a:off x="179280" y="234936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изический смыс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численно равна скорости реакции, при концентрации реагирующих веществ равной еди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4"/>
          <p:cNvSpPr/>
          <p:nvPr/>
        </p:nvSpPr>
        <p:spPr>
          <a:xfrm>
            <a:off x="250920" y="47242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зависит от природы реагирующих веществ, температуры и присутствия катализаторов, но не зависит от концентрации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240600" cy="877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2"/>
          <a:srcRect l="0" t="0" r="0" b="4710"/>
          <a:stretch/>
        </p:blipFill>
        <p:spPr>
          <a:xfrm>
            <a:off x="324000" y="1413000"/>
            <a:ext cx="2716200" cy="371448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9"/>
          <p:cNvSpPr/>
          <p:nvPr/>
        </p:nvSpPr>
        <p:spPr>
          <a:xfrm>
            <a:off x="405720" y="537372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коб Хендр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нт-Гоф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10"/>
          <p:cNvSpPr/>
          <p:nvPr/>
        </p:nvSpPr>
        <p:spPr>
          <a:xfrm>
            <a:off x="3214800" y="114300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повышении температуры на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скорость химической реакции увеличивается в 2-4 р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8"/>
              <p:cNvSpPr txBox="1"/>
              <p:nvPr/>
            </p:nvSpPr>
            <p:spPr>
              <a:xfrm>
                <a:off x="3500280" y="2714760"/>
                <a:ext cx="4880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r>
                              <m:t xml:space="preserve">Δ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Прямоугольник 13"/>
          <p:cNvSpPr/>
          <p:nvPr/>
        </p:nvSpPr>
        <p:spPr>
          <a:xfrm>
            <a:off x="3214800" y="4071960"/>
            <a:ext cx="557208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температурный коэффициент, принимает значения от 2 до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8251920" cy="6778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2"/>
          <p:cNvSpPr/>
          <p:nvPr/>
        </p:nvSpPr>
        <p:spPr>
          <a:xfrm>
            <a:off x="2771640" y="907920"/>
            <a:ext cx="60865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ория активных столкновений позволяет вывести математическое соотношение между скоростью реакции, частотой столкновений и вероятность того, что энергия молекул превосходит величину 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rcRect l="2833" t="0" r="0" b="0"/>
          <a:stretch/>
        </p:blipFill>
        <p:spPr>
          <a:xfrm>
            <a:off x="179280" y="1700280"/>
            <a:ext cx="2440080" cy="33210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232200" y="537372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анте Авгу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рениу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7"/>
          <p:cNvSpPr/>
          <p:nvPr/>
        </p:nvSpPr>
        <p:spPr>
          <a:xfrm>
            <a:off x="3564000" y="328464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УРАВНЕНИЕ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АРРЕНИ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4572000" y="3716280"/>
                <a:ext cx="25876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Прямоугольник 9"/>
          <p:cNvSpPr/>
          <p:nvPr/>
        </p:nvSpPr>
        <p:spPr>
          <a:xfrm>
            <a:off x="3276720" y="4653000"/>
            <a:ext cx="5715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остоянная скорости реа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число столкнов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универсальная газовая постоянн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абсолютная температу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нергия актив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755640" y="0"/>
            <a:ext cx="7697880" cy="795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929120" cy="342900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4"/>
          <p:cNvSpPr/>
          <p:nvPr/>
        </p:nvSpPr>
        <p:spPr>
          <a:xfrm>
            <a:off x="0" y="485784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пределение молекул по кинетической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5"/>
          <p:cNvSpPr/>
          <p:nvPr/>
        </p:nvSpPr>
        <p:spPr>
          <a:xfrm>
            <a:off x="5219640" y="907920"/>
            <a:ext cx="364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нергия активации –минимальная энергия, которая необходима для химического взаимо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нергию активации можно рассматривать как некоторый энергетический барьер, который должны преодолеть сталкивающиеся молеку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11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539640" y="141300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нятия и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активных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переходного с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 равн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Ле Шател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мещение химического равнове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37520" cy="82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rcRect l="2204" t="15004" r="3861" b="3754"/>
          <a:stretch/>
        </p:blipFill>
        <p:spPr>
          <a:xfrm>
            <a:off x="755640" y="2276640"/>
            <a:ext cx="7772400" cy="3946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"/>
          <p:cNvPicPr/>
          <p:nvPr/>
        </p:nvPicPr>
        <p:blipFill>
          <a:blip r:embed="rId3"/>
          <a:stretch/>
        </p:blipFill>
        <p:spPr>
          <a:xfrm>
            <a:off x="3203640" y="1268280"/>
            <a:ext cx="3956040" cy="944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193760" y="189000"/>
            <a:ext cx="7950240" cy="723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0" y="14842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6084720" y="1052640"/>
            <a:ext cx="280836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нергия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ис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исход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кон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продуктов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тепловой эффект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2"/>
          <p:cNvSpPr/>
          <p:nvPr/>
        </p:nvSpPr>
        <p:spPr>
          <a:xfrm>
            <a:off x="250920" y="1268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а, не расходующиес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результате протекания реакции, но влияющие на ее скорость называютс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ато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вление изменения скорости реакции под действием катализаторов называю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324000" y="3213000"/>
            <a:ext cx="85010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ханизм действия катализато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стадия:            А + К → А … К → 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стадия:          АК + В → В … АК → АВ +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ходе реакции катализатор не расходу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тализатор изменяет путь реакции и тем самым влияет на энергию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658800" y="189000"/>
            <a:ext cx="8485200" cy="1317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558200" cy="48006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092640" cy="7444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2"/>
          <p:cNvSpPr/>
          <p:nvPr/>
        </p:nvSpPr>
        <p:spPr>
          <a:xfrm>
            <a:off x="179280" y="1197000"/>
            <a:ext cx="864396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омогенном катализе -  катализатор  и реагирующие вещества находятся в  одной фа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179280" y="3141720"/>
            <a:ext cx="86439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етерогенном катализе  – катализатор и реагенты находятся в разных фа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 + 1/2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+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214200" y="5786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ферментативном катализе – катализатором являются сложные белковые молекулы (энзим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6296040" cy="10285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2"/>
          <p:cNvSpPr/>
          <p:nvPr/>
        </p:nvSpPr>
        <p:spPr>
          <a:xfrm>
            <a:off x="250920" y="14130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стояние обратимой реакции, при котором скорость прямой реакции равна скорости обратной реакции, называется химическим равновес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054320" cy="35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42" name="Picture 5" descr=""/>
          <p:cNvPicPr/>
          <p:nvPr/>
        </p:nvPicPr>
        <p:blipFill>
          <a:blip r:embed="rId3"/>
          <a:stretch/>
        </p:blipFill>
        <p:spPr>
          <a:xfrm>
            <a:off x="5076720" y="2637000"/>
            <a:ext cx="3425760" cy="961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5292720" y="3789360"/>
                <a:ext cx="3003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8"/>
              <p:cNvSpPr txBox="1"/>
              <p:nvPr/>
            </p:nvSpPr>
            <p:spPr>
              <a:xfrm>
                <a:off x="5219640" y="4581360"/>
                <a:ext cx="31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9"/>
              <p:cNvSpPr txBox="1"/>
              <p:nvPr/>
            </p:nvSpPr>
            <p:spPr>
              <a:xfrm>
                <a:off x="4427640" y="5661000"/>
                <a:ext cx="4360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704880" y="189000"/>
            <a:ext cx="8439120" cy="8157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"/>
          <p:cNvSpPr/>
          <p:nvPr/>
        </p:nvSpPr>
        <p:spPr>
          <a:xfrm>
            <a:off x="285840" y="11386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анта химического равновес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это отношение произведения равновесных концентраций продуктов реакции к произведению равновесных концентраций исходных веществ, при чем все вещества находятся в степенях численно равных их стехиометрическим коэффициен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2287440" y="3357720"/>
                <a:ext cx="44118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об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</m:num>
                      <m:den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Rectangle 7"/>
          <p:cNvSpPr/>
          <p:nvPr/>
        </p:nvSpPr>
        <p:spPr>
          <a:xfrm>
            <a:off x="428760" y="4548600"/>
            <a:ext cx="8286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ых реак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9"/>
          <p:cNvSpPr/>
          <p:nvPr/>
        </p:nvSpPr>
        <p:spPr>
          <a:xfrm>
            <a:off x="395280" y="5661000"/>
            <a:ext cx="8501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ых реакций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O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Z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тв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5094360" y="4653000"/>
                <a:ext cx="2593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5219640" y="5734080"/>
                <a:ext cx="18306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5747040" cy="74448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539640" y="1052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имическое равновесие является подвижным. При изменении внешних условий скорости прямой и обратной реакций могут стать неодинаковыми, что обуславливает смещение (сдиг) равновесия.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2743200" cy="3257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3708360" y="2606040"/>
            <a:ext cx="50720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84 г. французский химик Анри Луи Ле Шателье сформулировал принци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на равновесную систему оказать внешнее воздействие, то равновесие смещается в сторону той реакции (прямой или обратной), которая противодействует этому воздейств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395280" y="58788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ри Лу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 Шател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863640" y="0"/>
            <a:ext cx="8280360" cy="13399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"/>
          <p:cNvSpPr/>
          <p:nvPr/>
        </p:nvSpPr>
        <p:spPr>
          <a:xfrm>
            <a:off x="395280" y="15552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Концентр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При увеличении (уменьшении) концентрации реагирующих веществ и при уменьшении (увеличении) концентрации продуктов реакции химическое равновесие смещается вправо (влево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395280" y="3284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Давление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увеличении (уменьшении) давления равновесие смещается в сторону уменьшения (увеличения) числа молекул (молей) газообраз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428760" y="49291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Температура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ение (понижение) температуры приводит к смещению химического равновесия в сторону эндотермической (экзотермической) реа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5443560" cy="72396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3"/>
          <p:cNvSpPr/>
          <p:nvPr/>
        </p:nvSpPr>
        <p:spPr>
          <a:xfrm>
            <a:off x="468360" y="1916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Л. Глинка, Общая химия, М.: Химия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hemistry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 chem.msu.su/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7"/>
          <p:cNvSpPr/>
          <p:nvPr/>
        </p:nvSpPr>
        <p:spPr>
          <a:xfrm>
            <a:off x="250920" y="127080"/>
            <a:ext cx="8643960" cy="73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ОСНОВНЫЕ ПОНЯТ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И ОПРЕДЕ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ая кинетика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ел химии, изучающий скорости и механизмы химических процессов, а также зависимость их от различ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зм реакции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последовательность отдельных простейших (элементарных) стадий реакции, в результате которых происходит образование конеч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оретическ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стоит в том, что она позволяет проникнуть в сущность механизма химического взаимодей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кладн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яется тем, что для практического использования какой-либо реакции необходимо управлять ею, т.е. знать скорость ее протекания в данных условиях и способы изменения этой скор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12120" cy="811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684000" y="1844640"/>
            <a:ext cx="82803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частиц, участвующих в элементарном акте реакции (молекуляр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фаз, участвующих в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именимости катализ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тепени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ханизму протек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15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8360" y="1628640"/>
            <a:ext cx="84009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екулярность реакции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инимальное число молекул, участвующих в элементарном химическом проц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молекулярные реакции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молекулярные реа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молекулярные реа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NO + 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 N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O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NO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28200" cy="116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78920" y="1773360"/>
            <a:ext cx="86439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м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однородной среде ( в одной фазе). Например, в газообразной фазе или жидком растворе. Гомогенные реакции протекают равномерно во всем объеме реакционн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тер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неоднородной среде, т.е. между веществами, которые находятся в разных фазах (твердой и жидкой, газообразной и жидкой и т.д.). Гетерогенные  реакции идут на границе раздела ф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14083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0004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алитические реа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под действием кат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 +  В  = 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аталитические реак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реакции, в которых катализатором является один из продуктов реа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при разложении перманганата калия образуется оксид марганц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является катализатором для данного проце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705560" y="27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протекающие в одну стадию, в них участвуют только частицы, входящие в уравнение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ж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идущие в несколько стадий, которые идут последовательно, либо параллельно, либо  последовательно-паралл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Object 3"/>
          <p:cNvGraphicFramePr/>
          <p:nvPr/>
        </p:nvGraphicFramePr>
        <p:xfrm>
          <a:off x="5651640" y="2924280"/>
          <a:ext cx="2425680" cy="29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924280"/>
                    <a:ext cx="24256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Прямоугольник 6"/>
          <p:cNvSpPr/>
          <p:nvPr/>
        </p:nvSpPr>
        <p:spPr>
          <a:xfrm>
            <a:off x="250920" y="1628640"/>
            <a:ext cx="864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доват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 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межуточными стадиями, когда продукт предыдущей стадии служит исходным веществом для последующе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CH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HCl + C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250920" y="3429000"/>
            <a:ext cx="8675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лл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, в которых исходные вещества способны  образовывать разные продукты реакции или одно вещество  одноврем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 реагировать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колькими вещест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 3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4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7"/>
          <p:cNvGraphicFramePr/>
          <p:nvPr/>
        </p:nvGraphicFramePr>
        <p:xfrm>
          <a:off x="7072200" y="4857840"/>
          <a:ext cx="1603440" cy="16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72200" y="4857840"/>
                    <a:ext cx="16034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6:49:40Z</dcterms:created>
  <dc:creator>Елена</dc:creator>
  <dc:description/>
  <dc:language>en-US</dc:language>
  <cp:lastModifiedBy>User</cp:lastModifiedBy>
  <dcterms:modified xsi:type="dcterms:W3CDTF">2011-09-13T05:22:22Z</dcterms:modified>
  <cp:revision>105</cp:revision>
  <dc:subject/>
  <dc:title>ОСНОВЫ ХИМИЧЕСКОЙ КИНЕТИКИ И ХИМИЧЕСКОЕ РАВНОВЕСИЕ</dc:title>
</cp:coreProperties>
</file>