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D368-521B-4B4A-823B-850419CA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49DA-BFFA-46D4-B370-5CD7B241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E85A-43B9-4FDF-99AC-2CE22305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E1E0-79E1-4120-B28C-41684AFE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F55D-5D86-4A24-8531-294A5719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3D4-3A21-47FF-8E3A-F73A5AE5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86C2-48F4-436D-A4F3-48529FEC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B14C-016A-4D4B-961D-F25570CB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58F8-9A1A-400B-BE4C-B273571D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A58C-D106-40F3-8AF6-ED8B72A2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F041-EEF9-47C1-BF53-59D3118B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FA51-3C79-45B1-B0CB-0ACE965A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ED6E-3961-4A37-A32D-2194534FF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rId2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endshow"/>
          </p:cNvPr>
          <p:cNvSpPr/>
          <p:nvPr/>
        </p:nvSpPr>
        <p:spPr>
          <a:xfrm>
            <a:off x="7451640" y="6669000"/>
            <a:ext cx="432000" cy="189000"/>
          </a:xfrm>
          <a:custGeom>
            <a:avLst/>
            <a:gdLst>
              <a:gd name="textAreaLeft" fmla="*/ 12240 w 432000"/>
              <a:gd name="textAreaRight" fmla="*/ 419760 w 432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49319" h="21600">
                <a:moveTo>
                  <a:pt x="0" y="0"/>
                </a:moveTo>
                <a:lnTo>
                  <a:pt x="49319" y="0"/>
                </a:lnTo>
                <a:lnTo>
                  <a:pt x="49319" y="21600"/>
                </a:lnTo>
                <a:lnTo>
                  <a:pt x="0" y="21600"/>
                </a:lnTo>
                <a:close/>
              </a:path>
              <a:path fill="lightenLess" w="49319" h="21600">
                <a:moveTo>
                  <a:pt x="0" y="0"/>
                </a:moveTo>
                <a:lnTo>
                  <a:pt x="49319" y="0"/>
                </a:lnTo>
                <a:lnTo>
                  <a:pt x="47919" y="1400"/>
                </a:lnTo>
                <a:lnTo>
                  <a:pt x="1400" y="1400"/>
                </a:lnTo>
                <a:close/>
              </a:path>
              <a:path fill="darken" w="49319" h="21600">
                <a:moveTo>
                  <a:pt x="49319" y="0"/>
                </a:moveTo>
                <a:lnTo>
                  <a:pt x="49319" y="21600"/>
                </a:lnTo>
                <a:lnTo>
                  <a:pt x="47919" y="20200"/>
                </a:lnTo>
                <a:lnTo>
                  <a:pt x="47919" y="1400"/>
                </a:lnTo>
                <a:close/>
              </a:path>
              <a:path fill="darkenLess" w="49319" h="21600">
                <a:moveTo>
                  <a:pt x="49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19" y="20200"/>
                </a:lnTo>
                <a:close/>
              </a:path>
              <a:path fill="lighten" w="49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11640" y="2781360"/>
            <a:ext cx="4464000" cy="2449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cc00"/>
              </a:gs>
              <a:gs pos="50000">
                <a:srgbClr val="ccff33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Лекция №6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717720" cy="475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24000" y="333360"/>
            <a:ext cx="813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ислительно-восстановительные  реакции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58FC-22AA-41A8-A903-522956E0609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0"/>
            <a:ext cx="82296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Важнейшие восстановители и окисл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0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29AA-F010-4762-84A0-0C693FB98B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Элементы в промежуточной степени окисления. H2+O–2. 2О– +2е?2О-2. H2+O2–. 2О– -2е? О20. О20. S+4 +6e ? S–2. Na2S–2. Na2S+4O3. S0. S+4 +4e ? S0. S+4 – 2e ? S+6. Na2S+6O4."/>
          <p:cNvPicPr/>
          <p:nvPr/>
        </p:nvPicPr>
        <p:blipFill>
          <a:blip r:embed="rId1"/>
          <a:srcRect l="0" t="6593" r="0" b="8973"/>
          <a:stretch/>
        </p:blipFill>
        <p:spPr>
          <a:xfrm>
            <a:off x="324000" y="260280"/>
            <a:ext cx="8424720" cy="631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1255-8280-4A27-ABEB-F9742FFF33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Типы ОВР. 2сu0 +O20? 2cu2+o2–. 3H2S?2 +H2S+6O4 ? 4S0 + 4H2O. 6KI? + 4H2S+6O4 ? 3I20+S0 +3K2SO4+4H2O. (N–3H4)2Cr2+6O7 (t0) ? N20 + Cr2+3O3 + 4H2O. 2NaN+5O3–2 ? 2NaN+3O2 + O20. Межмолекулярные. Внутримолекулярные. Диспропорционирование. KCl+5O3–2 ? 2KCl– + 3O20. 4KCl+5O3?KCl?+3KCl+7O4. Cl20 + 2KOH ? KCl? +KCl+1O +H2O. 4Na2S+4O3 ? Na2S?2 + 3Na2S+6O4."/>
          <p:cNvPicPr/>
          <p:nvPr/>
        </p:nvPicPr>
        <p:blipFill>
          <a:blip r:embed="rId1"/>
          <a:srcRect l="0" t="4367" r="0" b="6747"/>
          <a:stretch/>
        </p:blipFill>
        <p:spPr>
          <a:xfrm>
            <a:off x="684360" y="123984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82560" y="25848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6CB7-E121-4096-AEB1-3F9759DDD6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Межмолекулярные окислительно-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ислитель и восстановитель находятся в разных веществах; обмен электронами в этих реакциях происходит между различными атомами или молеку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7960" y="219600"/>
            <a:ext cx="7790400" cy="1319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03280" y="3429000"/>
            <a:ext cx="6042240" cy="216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1280" y="5516640"/>
            <a:ext cx="78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юда же относятся реакции между веществами, в которых атомы одного и того же элемента имеют разные степени ок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629928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D675-50C5-4C5A-97D6-A0F95886E4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Внутримолекулярные окислительно- 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268280"/>
            <a:ext cx="85690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нутримолекуляр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кциях окислитель и восстановитель находя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одной и той ж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утримолекулярные реакции протекают, как правило, пр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ермическом разложен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ществ, содержащих окислитель и восстанови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3570120"/>
            <a:ext cx="9144000" cy="21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2411-4119-44B6-B0D3-1751DBE431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Диспропорционировани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ая реакция, в которой один элемент одновременно повышает и понижает степень 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807000"/>
            <a:ext cx="9144000" cy="140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0F3A-2B60-42AC-BE4F-9E97BD3C24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       Электронный балан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метод нахождения коэффициентов в уравнениях окислительно-восстановительных реакций, в котором рассматривается обмен электронами между атомами элементов, изменяющих свою степень окис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исло электронов, отданное восстановителем, равно числу электронов, получаемых окисл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35400" y="4528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23B1-8022-4C83-911B-2FC1D9C2E4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404640"/>
            <a:ext cx="806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одом электронного баланса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285840" y="177336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сравнении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тепеней окислени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томов в исходных веществах и продуктах реакции и на балансировании числа электронов, смещенных от  восстановителя к окисли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ля составления уравнений реакций, протекающих в любых ф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ом универсальность и удобство мет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Недостаток мет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ри выражении сущности реакций, протекающих в растворах, не отражается существование реальных час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C6AE-93EE-48D6-AB06-60EE5657D6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20640"/>
            <a:ext cx="91440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ставить схему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степени окисления элементов в реагентах и продуктах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является реакция окислительно-восстановительной или она протекает без изменения степеней окисления эле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черкнуть элементы, степени окисления которых изменяю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какой элемент окисляется (его степень окисления повышается) и какой элемент восстанавливается (его степень окисления понижается) в процесс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левой части схемы обозначить с помощью стрелок процесс окисления (смещение электронов от атома элемента) и процесс восстановления (смещение электронов к атому элемен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восстановитель и окисли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балансировать число электронов между окислителем и восстанови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коэффициенты для окислителя и восстановителя, продуктов окисления и восстано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писать коэффициент перед формулой вещества, определяющего среду раств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верить уравнени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937640" cy="35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DCE2-192B-4DBC-AF6E-EAF3145A05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1135080"/>
            <a:ext cx="6696000" cy="572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24960" y="156600"/>
            <a:ext cx="7916400" cy="9410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CF21-E92F-4D65-B721-50EFCF8761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189000"/>
            <a:ext cx="8497800" cy="1511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981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7236000" y="6669000"/>
            <a:ext cx="649080" cy="189000"/>
          </a:xfrm>
          <a:custGeom>
            <a:avLst/>
            <a:gdLst>
              <a:gd name="textAreaLeft" fmla="*/ 12240 w 649080"/>
              <a:gd name="textAreaRight" fmla="*/ 636840 w 6490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4081" h="21600">
                <a:moveTo>
                  <a:pt x="0" y="0"/>
                </a:moveTo>
                <a:lnTo>
                  <a:pt x="74081" y="0"/>
                </a:lnTo>
                <a:lnTo>
                  <a:pt x="74081" y="21600"/>
                </a:lnTo>
                <a:lnTo>
                  <a:pt x="0" y="21600"/>
                </a:lnTo>
                <a:close/>
              </a:path>
              <a:path fill="lightenLess" w="74081" h="21600">
                <a:moveTo>
                  <a:pt x="0" y="0"/>
                </a:moveTo>
                <a:lnTo>
                  <a:pt x="74081" y="0"/>
                </a:lnTo>
                <a:lnTo>
                  <a:pt x="72681" y="1400"/>
                </a:lnTo>
                <a:lnTo>
                  <a:pt x="1400" y="1400"/>
                </a:lnTo>
                <a:close/>
              </a:path>
              <a:path fill="darken" w="74081" h="21600">
                <a:moveTo>
                  <a:pt x="74081" y="0"/>
                </a:moveTo>
                <a:lnTo>
                  <a:pt x="74081" y="21600"/>
                </a:lnTo>
                <a:lnTo>
                  <a:pt x="72681" y="20200"/>
                </a:lnTo>
                <a:lnTo>
                  <a:pt x="72681" y="1400"/>
                </a:lnTo>
                <a:close/>
              </a:path>
              <a:path fill="darkenLess" w="74081" h="21600">
                <a:moveTo>
                  <a:pt x="74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81" y="20200"/>
                </a:lnTo>
                <a:close/>
              </a:path>
              <a:path fill="lighten" w="74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081" h="21600">
                <a:moveTo>
                  <a:pt x="30034" y="10800"/>
                </a:moveTo>
                <a:lnTo>
                  <a:pt x="44047" y="3794"/>
                </a:lnTo>
                <a:lnTo>
                  <a:pt x="44047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endshow"/>
          </p:cNvPr>
          <p:cNvSpPr/>
          <p:nvPr/>
        </p:nvSpPr>
        <p:spPr>
          <a:xfrm>
            <a:off x="6588000" y="6669000"/>
            <a:ext cx="648000" cy="189000"/>
          </a:xfrm>
          <a:custGeom>
            <a:avLst/>
            <a:gdLst>
              <a:gd name="textAreaLeft" fmla="*/ 12240 w 648000"/>
              <a:gd name="textAreaRight" fmla="*/ 635760 w 648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57" h="21600">
                <a:moveTo>
                  <a:pt x="0" y="0"/>
                </a:moveTo>
                <a:lnTo>
                  <a:pt x="73957" y="0"/>
                </a:lnTo>
                <a:lnTo>
                  <a:pt x="73957" y="21600"/>
                </a:lnTo>
                <a:lnTo>
                  <a:pt x="0" y="21600"/>
                </a:lnTo>
                <a:close/>
              </a:path>
              <a:path fill="lightenLess" w="73957" h="21600">
                <a:moveTo>
                  <a:pt x="0" y="0"/>
                </a:moveTo>
                <a:lnTo>
                  <a:pt x="73957" y="0"/>
                </a:lnTo>
                <a:lnTo>
                  <a:pt x="72557" y="1400"/>
                </a:lnTo>
                <a:lnTo>
                  <a:pt x="1400" y="1400"/>
                </a:lnTo>
                <a:close/>
              </a:path>
              <a:path fill="darken" w="73957" h="21600">
                <a:moveTo>
                  <a:pt x="73957" y="0"/>
                </a:moveTo>
                <a:lnTo>
                  <a:pt x="73957" y="21600"/>
                </a:lnTo>
                <a:lnTo>
                  <a:pt x="72557" y="20200"/>
                </a:lnTo>
                <a:lnTo>
                  <a:pt x="72557" y="1400"/>
                </a:lnTo>
                <a:close/>
              </a:path>
              <a:path fill="darkenLess" w="73957" h="21600">
                <a:moveTo>
                  <a:pt x="73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57" y="20200"/>
                </a:lnTo>
                <a:close/>
              </a:path>
              <a:path fill="lighten" w="73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06064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условный заряд атома в молекуле, вычисленный в предположении, что молекула состоит из ионов и в целом электронейтра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электроотрицательные элементы в соединении имеют отрицательные степени окисления, а атомы элементов с меньшей электроотрицательностью - положите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 окисления - формальное понятие; в ряде случаев степень окисления не совпадает с валент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4394160"/>
            <a:ext cx="73454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гидраз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епень окисления азота – -2; валентность азота –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51280" y="5084640"/>
            <a:ext cx="1440000" cy="6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DB8B-F9B9-4B1F-890D-E58BF92A389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B      Электронно-ионный баланс (метод полуреакций)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тод нахождения коэффициентов, в котор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атривается обмен электронами между ионами в растворе с учетом характера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46560" y="4384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4772-2BC9-4DE3-B0FC-4CCE4CF638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333360"/>
            <a:ext cx="7705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уреакций или ионно-электронным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135000" y="2060640"/>
            <a:ext cx="8881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 составлении ионно-электронных уравнений для процессов окисления и восстановления с учетом реально существующих частиц и последующим суммированием их в общее урав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ля выражения сущности окислительно-восстанов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ьных реакций , протекающих только в раство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Достоинство мет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В электронно-ионных уравнениях полуреакций записываются ионы, реа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ующие в водном растворе, а не условные част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Понятие «степень окисления» не использу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использовании этого метода не нужно знать все вещества: о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ются при выводе уравнения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Видна роль среды как активного участника все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4107-DF2B-4168-8FDA-43309F85B3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49360"/>
            <a:ext cx="9032760" cy="60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Записываем ионную схему процесса, которая включает только восстановитель и продукт его окисления и окислитель и продукт его восстановления: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+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&gt;  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окис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восстанов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ē -&gt;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ываем уравнения полуреакций так, чтобы число электронов между окислителем и  восстановителем было сбалансиров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 ē-&gt;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ируем почленно уравнения полуреакций. Составляем общее ионное уравнение реакции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+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ем правильность составления уравнения реакции в ионном ви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число атомов элементов должно быть равно в левой и в правой частях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общий заряд частиц в левой и правой частях ионного уравнения должен быть один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Записываем уравнение в молекулярной форме. Для этого добавляем к ионам, входящим в ионное уравнение, необходимое число ионов противоположного заряд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+ 4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Zn(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694836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11280" y="115920"/>
            <a:ext cx="80866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 составления уравнения ОВР методом полуреакций</a:t>
            </a:r>
            <a:endParaRPr b="1" lang="en-US" sz="24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6026-A102-484C-BFC6-77D436C907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ИЯНИЕ СРЕДЫ НА ПРОТЕКАНИЕ ОКИСЛИТЕЛЬНО-ВОССТАНОВИ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2133720"/>
          <a:ext cx="8351640" cy="3419280"/>
        </p:xfrm>
        <a:graphic>
          <a:graphicData uri="http://schemas.openxmlformats.org/drawingml/2006/table">
            <a:tbl>
              <a:tblPr/>
              <a:tblGrid>
                <a:gridCol w="1942920"/>
                <a:gridCol w="3024360"/>
                <a:gridCol w="338436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БЫ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тр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ело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3F5D-ACB4-477D-BDEC-5CFC57E465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кции с участием перманганата калия в качестве окислител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1840" y="402840"/>
            <a:ext cx="823320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2060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кисл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8280360" cy="3466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4360" y="2637000"/>
            <a:ext cx="741672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кислой среде кислород отдают молекулы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 связывается он ионами вод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86F0-0904-4B2B-B8FD-5DADC821346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нейтраль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3120" y="402840"/>
            <a:ext cx="84124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605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6197400"/>
            <a:ext cx="856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иолетовый раство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n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сле окончания реакции обесцвечивается и наблюдается выпадение бурого оса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1773360"/>
            <a:ext cx="756108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нейтральной среде добавление и связ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томов кислорода осуществляется только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C373-2654-4295-9268-148813D764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8000" y="13413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щелоч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3898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1989000"/>
            <a:ext cx="7416720" cy="6494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В щелочной среде кислород предоставляют ионы ОН</a:t>
            </a:r>
            <a:r>
              <a:rPr b="1" i="1" lang="en-US" sz="1800" spc="-1" strike="noStrike">
                <a:solidFill>
                  <a:srgbClr val="ccff33"/>
                </a:solidFill>
                <a:latin typeface="Arial"/>
                <a:ea typeface="Arial"/>
              </a:rPr>
              <a:t>¯</a:t>
            </a: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а связывается он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79CB-882F-495D-BF4E-18C8BC17666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545080" cy="431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9EC6-A466-4862-BBED-0C7B6D34607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взаимодействии веществ, содержащих в своем составе элементы в промежуточных степенях окисления о направлении реакции судят по окислительно-восстановительными потенциалами, которые характеризуют работу, затрачиваемую на отрыв электронов при переходе вещества из восстановленной формы в окисленную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ый потенциал </a:t>
            </a:r>
            <a:r>
              <a:rPr b="1" lang="el-GR" sz="2400" spc="-1" strike="noStrike">
                <a:solidFill>
                  <a:srgbClr val="663300"/>
                </a:solidFill>
                <a:latin typeface="Arial"/>
                <a:ea typeface="Arial"/>
              </a:rPr>
              <a:t>φ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оличественная характеристика окислительно-восстановительной п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CF04-D46F-4081-A2EB-78B44BC1458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таблице потенциалов определяют потенциалы окислителя и восстанов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ходят их алгебраическую су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то процесс 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 то процесс не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= 0, то химическое равновес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акция будет протекать в том случае, если окислительно-восстановительный потенциал окислителя выше, чем восстановителя, а их разница больше н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 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Примечание. Во всех справочниках </a:t>
            </a:r>
            <a:r>
              <a:rPr b="1" lang="el-GR" sz="1600" spc="-1" strike="noStrike">
                <a:solidFill>
                  <a:srgbClr val="ff6600"/>
                </a:solidFill>
                <a:latin typeface="Arial"/>
                <a:ea typeface="Arial"/>
              </a:rPr>
              <a:t>φ</a:t>
            </a:r>
            <a:r>
              <a:rPr b="1" lang="ru-RU" sz="1600" spc="-1" strike="noStrike" baseline="30000">
                <a:solidFill>
                  <a:srgbClr val="ff6600"/>
                </a:solidFill>
                <a:latin typeface="Arial"/>
                <a:ea typeface="Arial"/>
              </a:rPr>
              <a:t>0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указаны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для окисл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  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Для восстановителей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берут процесс в </a:t>
            </a:r>
            <a:r>
              <a:rPr b="1" i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обратном направлении с противоположным зна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9D25-65D0-4980-8F1F-A35F9FEABB6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ля вычисления степени окисления элемента следует учитывать следующие по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  Степени окисления атомов в простых веществах равны нулю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  Постоянную степень окисления имеют ато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ых металлов (+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оземельных металлов (+2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рода (+1) (кроме гидрид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, где степень окисления водорода -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слорода (-2) (кром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ероксидов, содержащих группу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, в которой степень окисления кислорода -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7FC8-EDFF-45B7-8691-96F6091B63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Возможен ли процесс: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Cu +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FeCl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→</a:t>
            </a:r>
            <a:r>
              <a:rPr b="1" lang="ru-RU" sz="3200" spc="-1" strike="noStrike">
                <a:solidFill>
                  <a:srgbClr val="663300"/>
                </a:solidFill>
                <a:latin typeface="Arial Narrow"/>
              </a:rPr>
              <a:t>? 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писывают из справочника все вариа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2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2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34 B  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1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52 B   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77 B  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3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33 B  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дет тот процесс, где алгебраическая сумма потенциалов наибольшая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му условию удовлетворяют варианты 1 и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 +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С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+ 2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0EFC-DBC6-4C05-9462-9CB0A7C0F27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1440"/>
            <a:ext cx="7344000" cy="685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F479-272A-453C-83A0-BBD9A87F5D6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6920" y="33156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413000"/>
            <a:ext cx="809784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    Алгебраическая сумма степеней окисления всех атомов, входящих в состав молекулы, всегда равна нулю, а в сложном ионе эта сумма равна заряду 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      Для элементов положительная степень окисления не может превышать величину, равную номеру группы периодическ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7C8D-7762-43EA-96EF-3EAC6E5410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028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уществует два типа химических реа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    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кции, в которых не изменяется степень окисления элем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при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CuO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C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C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OH + 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A765-67B0-42EE-91D6-DA20D6AD7E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B   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кции, в которых происходит изменение степеней окисления атомов элементов, входящих в состав реагирующих соедин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 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H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е реакции называются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ительно - восстановитель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19640" y="180000"/>
            <a:ext cx="7869600" cy="1080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D6FC-6D57-4FFE-B50D-8F3B2EF233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16760" y="177120"/>
            <a:ext cx="7875360" cy="10634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Окисление, восстановление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кислительно-восстановительных реакциях электроны от одних атомов, молекул или ионов переходят к другим. Процесс отдачи электронов -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е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окислении степень окисления повыш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3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2ē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435640" y="3933720"/>
            <a:ext cx="2857320" cy="18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CBB6-9B06-4038-8FA9-34307743A8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присоединения электронов –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восстановлени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осстановлении степень окисления пониж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3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ы или ионы, которые в данной реакции присоединяют электроны являются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окисл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которые отдают электроны -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восстанов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4392360" cy="285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33C2-84E1-4DCA-8169-FB985196AE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43680" y="175320"/>
            <a:ext cx="7878960" cy="10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е свойства вещества и степени окисления входящих в него атом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457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единения, содержащие атомы элементов с максимальной степенью окисления, могут быть только окислителями за счет этих атомов, т.к. они уже отдали все свои валентные электроны и способны только принимать электро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альная степень окисления атома элемента равна номеру группы в периодической таблице, к которой относится данный эле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Соединения, содержащие атомы элементов с минимальной степенью окисления, могут служить только восстановителями, поскольку они способны лишь отдавать электроны, потому, что внешний энергетический уровень у таких атомов завершен восемью электронам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Минимальная степень окисления у атомов металлов равна 0, для неметаллов - (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–8) (где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- номер группы в периодической системе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единения, содержащие атомы элементов с промежуточной степенью окисления, могут быть и окислителями и восстановителями, в зависимости от партнера, с которым взаимодействуют и от условий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B242-29EA-4DCB-921B-487D45F796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12:50:36Z</dcterms:created>
  <dc:creator>Юля</dc:creator>
  <dc:description/>
  <dc:language>en-US</dc:language>
  <cp:lastModifiedBy>User</cp:lastModifiedBy>
  <dcterms:modified xsi:type="dcterms:W3CDTF">2011-11-30T10:37:33Z</dcterms:modified>
  <cp:revision>38</cp:revision>
  <dc:subject/>
  <dc:title>Слайд 1</dc:title>
</cp:coreProperties>
</file>